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png" ContentType="image/png"/>
  <Override PartName="/ppt/media/image7.wmf" ContentType="image/x-wmf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77DE8-1AD8-48D2-95AF-C1E0F973CC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262FD-FA86-4228-ADC7-A8ECDDEE4A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5C8-C081-47AF-97B7-AE7F2A83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A67-2D95-4110-B1BE-F04E1625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BAC-9250-4D54-898D-F140DA9C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2AE-C0C5-4BEB-9705-CAE275C7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3DD-0994-447B-A33C-577D5DDA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C290-008F-49D2-86ED-1BA4AEF4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C51C-30EE-4740-BC83-FC6A9734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91D-62CA-48F3-BFE6-AAFA7159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137-0A88-44A0-BC97-089F6905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621-4C9F-4961-BD56-D5E52C72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36A9-F450-40D3-978F-3B6A5A52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2F67-F808-41D7-90A5-13C18E8A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53047-131D-42BD-A053-BD4D589085D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图片 22" descr="屏幕剪辑"/>
          <p:cNvPicPr/>
          <p:nvPr/>
        </p:nvPicPr>
        <p:blipFill>
          <a:blip r:embed="rId1"/>
          <a:stretch/>
        </p:blipFill>
        <p:spPr>
          <a:xfrm>
            <a:off x="2163600" y="2279520"/>
            <a:ext cx="4859640" cy="295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53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图片 46" descr="枫叶副本"/>
            <p:cNvPicPr/>
            <p:nvPr/>
          </p:nvPicPr>
          <p:blipFill>
            <a:blip r:embed="rId4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矩形 47" descr=""/>
            <p:cNvPicPr/>
            <p:nvPr/>
          </p:nvPicPr>
          <p:blipFill>
            <a:blip r:embed="rId5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组合 13338"/>
          <p:cNvGrpSpPr/>
          <p:nvPr/>
        </p:nvGrpSpPr>
        <p:grpSpPr>
          <a:xfrm>
            <a:off x="2162160" y="905040"/>
            <a:ext cx="4819680" cy="1180800"/>
            <a:chOff x="2162160" y="905040"/>
            <a:chExt cx="4819680" cy="1180800"/>
          </a:xfrm>
        </p:grpSpPr>
        <p:sp>
          <p:nvSpPr>
            <p:cNvPr id="57" name="Text Box 2"/>
            <p:cNvSpPr/>
            <p:nvPr/>
          </p:nvSpPr>
          <p:spPr>
            <a:xfrm>
              <a:off x="342108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 </a:t>
              </a: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天　鹅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" name="组合 13337"/>
            <p:cNvGrpSpPr/>
            <p:nvPr/>
          </p:nvGrpSpPr>
          <p:grpSpPr>
            <a:xfrm>
              <a:off x="2162160" y="905040"/>
              <a:ext cx="1180800" cy="1180800"/>
              <a:chOff x="2162160" y="905040"/>
              <a:chExt cx="1180800" cy="1180800"/>
            </a:xfrm>
          </p:grpSpPr>
          <p:sp>
            <p:nvSpPr>
              <p:cNvPr id="59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文本框 13"/>
              <p:cNvSpPr/>
              <p:nvPr/>
            </p:nvSpPr>
            <p:spPr>
              <a:xfrm>
                <a:off x="237960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6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968400" y="11890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据他们说，天鹅发出这样柔和、这样动人的声调，是在它将要断气的时候，它是要对生命作一个哀痛而深情的告别；这种声调，如怨如诉，低沉地、悲伤地、凄黯地，构成它自己的丧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1050840" y="3514680"/>
            <a:ext cx="730908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弥留时，天鹅的声调仍然“柔和”“动人”，这声调是它要对生命作一个“哀痛而深情”的告别。这种声调“如怨如诉”“低沉地、悲伤地、凄黯地”构成它自己的丧歌，怎能不使人黯然神伤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858960" y="1090440"/>
            <a:ext cx="768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你听到天鹅唱自己的丧歌的时候，你会想些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图片 24" descr="花盆.png"/>
          <p:cNvPicPr/>
          <p:nvPr/>
        </p:nvPicPr>
        <p:blipFill>
          <a:blip r:embed="rId1"/>
          <a:stretch/>
        </p:blipFill>
        <p:spPr>
          <a:xfrm>
            <a:off x="642960" y="123336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86" name="矩形 2"/>
          <p:cNvSpPr/>
          <p:nvPr/>
        </p:nvSpPr>
        <p:spPr>
          <a:xfrm>
            <a:off x="971640" y="2146320"/>
            <a:ext cx="73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会想：又有一只美丽的天鹅要死亡了，真是令人难过。这美丽的生灵，唱出了自己生命中最动听的歌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3"/>
          <p:cNvGrpSpPr/>
          <p:nvPr/>
        </p:nvGrpSpPr>
        <p:grpSpPr>
          <a:xfrm>
            <a:off x="5259240" y="4132440"/>
            <a:ext cx="3283200" cy="2300040"/>
            <a:chOff x="5259240" y="4132440"/>
            <a:chExt cx="3283200" cy="2300040"/>
          </a:xfrm>
        </p:grpSpPr>
        <p:pic>
          <p:nvPicPr>
            <p:cNvPr id="88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4132440"/>
              <a:ext cx="3283200" cy="23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矩形 1"/>
            <p:cNvSpPr/>
            <p:nvPr/>
          </p:nvSpPr>
          <p:spPr>
            <a:xfrm>
              <a:off x="5517720" y="4301640"/>
              <a:ext cx="22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句子，试一试吧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1100160" y="3097080"/>
            <a:ext cx="74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笔下的天鹅具有美丽尊贵、善航、向往自由、声音好听的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鹅具有什么样的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主要写了天鹅的哪些方面的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1197000" y="304632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主要写了天鹅的外形很妍美，在水上活动轻便、自由，是善航者，追求自由的美德，在生命弥留时深情地歌唱等方面的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内容占位符 2"/>
          <p:cNvSpPr/>
          <p:nvPr/>
        </p:nvSpPr>
        <p:spPr>
          <a:xfrm>
            <a:off x="625320" y="2303640"/>
            <a:ext cx="78472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鹅天生的美质表现在哪里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1039680" y="29034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现在：一是外形妍美；二是善于在水上航行，在水上航行的姿态很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内容占位符 2"/>
          <p:cNvSpPr/>
          <p:nvPr/>
        </p:nvSpPr>
        <p:spPr>
          <a:xfrm>
            <a:off x="804960" y="235260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析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鹅自由的美德表现在哪里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1039680" y="2978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现在：一是它要无拘无束的生活；二是要享受足够的独立；三是要任意遨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内容占位符 2"/>
          <p:cNvSpPr/>
          <p:nvPr/>
        </p:nvSpPr>
        <p:spPr>
          <a:xfrm>
            <a:off x="790560" y="183816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是按怎样的顺序描写天鹅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1198440" y="250200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本文脉络清晰，每一个自然段都围绕一个中心句来写。先写天鹅的优美与尊贵，然后写天鹅是善航者，接下来写天鹅的美德，最后写天鹅的歌声。作者是按照由表及里的顺序来写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26"/>
          <p:cNvSpPr/>
          <p:nvPr/>
        </p:nvSpPr>
        <p:spPr>
          <a:xfrm>
            <a:off x="1604160" y="2918880"/>
            <a:ext cx="78984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天　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2508120" y="2193840"/>
            <a:ext cx="4886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面目优雅，形状妍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善航者，最美的模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有自由的美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神奇的歌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左大括号 6"/>
          <p:cNvSpPr/>
          <p:nvPr/>
        </p:nvSpPr>
        <p:spPr>
          <a:xfrm>
            <a:off x="2306520" y="2249640"/>
            <a:ext cx="312840" cy="3360600"/>
          </a:xfrm>
          <a:custGeom>
            <a:avLst/>
            <a:gdLst>
              <a:gd name="textAreaLeft" fmla="*/ 199800 w 312840"/>
              <a:gd name="textAreaRight" fmla="*/ 313200 w 312840"/>
              <a:gd name="textAreaTop" fmla="*/ 7920 h 3360600"/>
              <a:gd name="textAreaBottom" fmla="*/ 3352680 h 33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"/>
                  <a:pt x="10800" y="167"/>
                </a:cubicBezTo>
                <a:lnTo>
                  <a:pt x="10800" y="10633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4"/>
                  <a:pt x="10800" y="10967"/>
                </a:cubicBezTo>
                <a:lnTo>
                  <a:pt x="10800" y="21433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左大括号 24"/>
          <p:cNvSpPr/>
          <p:nvPr/>
        </p:nvSpPr>
        <p:spPr>
          <a:xfrm flipH="1">
            <a:off x="5279400" y="2262240"/>
            <a:ext cx="199800" cy="3222720"/>
          </a:xfrm>
          <a:custGeom>
            <a:avLst/>
            <a:gdLst>
              <a:gd name="textAreaLeft" fmla="*/ 127800 w 199800"/>
              <a:gd name="textAreaRight" fmla="*/ 200160 w 199800"/>
              <a:gd name="textAreaTop" fmla="*/ 5040 h 3222720"/>
              <a:gd name="textAreaBottom" fmla="*/ 3217680 h 322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26"/>
          <p:cNvSpPr/>
          <p:nvPr/>
        </p:nvSpPr>
        <p:spPr>
          <a:xfrm>
            <a:off x="5569920" y="2442600"/>
            <a:ext cx="13993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向往自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美丽高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08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9" name="圆角矩形 1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描写了美丽、高贵和向往自由的天鹅，借对天鹅的赞美表达了作者对美的向往和对和平、自由等美好理想的追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4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5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8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9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内容占位符 2"/>
          <p:cNvSpPr/>
          <p:nvPr/>
        </p:nvSpPr>
        <p:spPr>
          <a:xfrm>
            <a:off x="996840" y="182880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趣的动物共栖现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张晓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动物世界充满奇趣。有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动物凶猛强大，有些动物弱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无比，有的是巨兽，有的是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从表面看，它们之间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水火不相容”，然而令人难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相信的是，它们居然能够朝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与共，和睦相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图片 1" descr="屏幕剪辑"/>
          <p:cNvPicPr/>
          <p:nvPr/>
        </p:nvPicPr>
        <p:blipFill>
          <a:blip r:embed="rId3"/>
          <a:stretch/>
        </p:blipFill>
        <p:spPr>
          <a:xfrm>
            <a:off x="4535640" y="2938320"/>
            <a:ext cx="37796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811080" y="23814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课文内容，认识天鹅典雅的美与自由独立的天性，体会作者对天鹅的喜爱之情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习作者有序观察的方法及描写天鹅所使用的表达方法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内容占位符 2"/>
          <p:cNvSpPr/>
          <p:nvPr/>
        </p:nvSpPr>
        <p:spPr>
          <a:xfrm>
            <a:off x="996840" y="136692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生活在热带雨林沼泽地带的犀牛，身长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米，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米，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吨以上，巨大的头上长着锐利无比的角。豹、狮和大象都不敢惹它，一种黑色的小鸟却可以在它的身上蹦来跳去，这里啄啄，那里啄啄。原来，犀牛的皮肤很厚，有很多皱褶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ě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。皱褶缝里面的皮肤很薄，常常钻进一些吸血的蝇、虻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mén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等昆虫。这些昆虫在里面产卵生蛆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qū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，搅得它寝食不安。犀牛背上的黑色小鸟，是在啄食寄生在犀牛身上的昆虫和蛆卵。所以，小黑鸟和大犀牛成了一对好朋友。人们把这种黑色的小鸟叫做“犀牛鸟”。犀牛鸟非常机灵，还能为犀牛放哨。周围一有异常的动静，它就惊飞起来，叫个不停，向犀牛报警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内容占位符 2"/>
          <p:cNvSpPr/>
          <p:nvPr/>
        </p:nvSpPr>
        <p:spPr>
          <a:xfrm>
            <a:off x="996840" y="1150920"/>
            <a:ext cx="71899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鳄鱼是一种凶猛的爬行动物。非洲尼罗鳄最大的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米，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吨以上。它可以把一头重几百公斤的野牛拖到水中淹死后吃掉。它用尾巴一扫，能把在河边喝水的羚羊打落水中。有谁想到，就是这样凶猛的动物却能够和一种叫燕千鸟的小鸟和睦相处。当地人经常可以看到鳄鱼在岸边张开大嘴巴，燕千鸟飞进飞出，鳄鱼丝毫不会伤害它们。原来，鳄鱼的牙缝里经常塞满残渣，牙齿和口腔又痛又痒，燕千鸟是在鳄鱼的嘴巴里为它剔牙。因此，燕千鸟也叫“牙签鸟”。有时燕千鸟不在它身边，鳄鱼的牙齿难受了，就会爬到岸上张开大嘴巴。附近树上的燕千鸟看见了，立即飞过来为鳄鱼剔牙。这样，燕千乌吃饱了，鳄鱼的牙也不痛不痒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内容占位符 2"/>
          <p:cNvSpPr/>
          <p:nvPr/>
        </p:nvSpPr>
        <p:spPr>
          <a:xfrm>
            <a:off x="996840" y="122724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内蒙古大草原上的百舌鸟和金黄鼠也是一对“好朋友”。百舌鸟在草原上被称作第二百灵，歌声悦耳动听。春夏之季，百舌鸟到金黄鼠的洞穴里去产卵，在它的洞穴里孵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f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卵育雏。一直到小百舌鸟飞出，这一对好朋友才分手。在孵卵育雏期间，它们相处得非常好，金黄鼠不但不伤害百舌鸟的卵和雏鸟，而且还替它照看着。金黄鼠收留百舌鸟，并非有利可图，只是喜欢听百舌鸟的歌声。闲暇时，它们玩得很开心，百舌鸟为金黄鼠唱歌，金黄鼠静静地听，高兴时还用两只后脚着地，跳起舞来。有时，百舌鸟落到金黄鼠的背上，用翅膀驱赶着它前进，金黄鼠猛地向洞里钻去，百舌鸟一收翅，就被金黄鼠驮进洞里去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屏幕剪辑"/>
          <p:cNvPicPr/>
          <p:nvPr/>
        </p:nvPicPr>
        <p:blipFill>
          <a:blip r:embed="rId1"/>
          <a:stretch/>
        </p:blipFill>
        <p:spPr>
          <a:xfrm>
            <a:off x="969840" y="2303640"/>
            <a:ext cx="7723440" cy="357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Picture 11" descr="http://s6.sinaimg.cn/bmiddle/49a01391951bb87626de5"/>
          <p:cNvPicPr/>
          <p:nvPr/>
        </p:nvPicPr>
        <p:blipFill>
          <a:blip r:embed="rId2"/>
          <a:stretch/>
        </p:blipFill>
        <p:spPr>
          <a:xfrm>
            <a:off x="1000080" y="2664000"/>
            <a:ext cx="7332840" cy="2139840"/>
          </a:xfrm>
          <a:prstGeom prst="rect">
            <a:avLst/>
          </a:prstGeom>
          <a:ln w="0">
            <a:noFill/>
          </a:ln>
        </p:spPr>
      </p:pic>
      <p:sp>
        <p:nvSpPr>
          <p:cNvPr id="129" name="矩形 1"/>
          <p:cNvSpPr/>
          <p:nvPr/>
        </p:nvSpPr>
        <p:spPr>
          <a:xfrm>
            <a:off x="1042920" y="2301840"/>
            <a:ext cx="7554960" cy="2349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海咸河淡，鳞潜羽翔，龙师火帝，鸟官人皇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千字文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涯何处寻香梦，尽看红尘陌路烟。振翅高飞一万尺，乘风再向九霄天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七绝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•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天鹅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乡书何处达？归雁洛阳边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次北固山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王湾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1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2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"/>
          <p:cNvSpPr/>
          <p:nvPr/>
        </p:nvSpPr>
        <p:spPr>
          <a:xfrm>
            <a:off x="1551240" y="2095560"/>
            <a:ext cx="14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天鹅的古称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265400" y="2562120"/>
            <a:ext cx="70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国古代称天鹅为鹄、鸿鹄、黄鹄等。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诗经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有“白鸟洁白肥泽”的记载，至今日语中的“白鸟”就是指天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37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矩形 1"/>
          <p:cNvSpPr/>
          <p:nvPr/>
        </p:nvSpPr>
        <p:spPr>
          <a:xfrm>
            <a:off x="1679040" y="4348080"/>
            <a:ext cx="18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关于天鹅的对联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1266840" y="4815000"/>
            <a:ext cx="70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鹅湖畔观美景　　知音心中存豪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43" name="矩形 11"/>
          <p:cNvSpPr/>
          <p:nvPr/>
        </p:nvSpPr>
        <p:spPr>
          <a:xfrm>
            <a:off x="1017720" y="245268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是一篇情趣盎然的科学小品，作者用文学的笔调描绘了天鹅的秀雅、娇美的外形特点和温顺商量、纤尘不染、本性自由、高尚、文雅等内在的美德，字里行间流露出作者对天鹅的无限热爱和赞美之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1077840" y="3147840"/>
            <a:ext cx="728820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朗读参考：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它的脖子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高高的，胸脯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挺挺的、圆圆的，就仿佛是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破浪前进的船头；它的宽广的腹部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就像船底；它的身子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为了便于疾驰，向前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倾着，愈向后就愈挺起，最后翘得高高的就像船舳；尾巴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是地道的舵；脚就是宽阔的浆；它的一对大翅膀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在风前半张着，微微地鼓起来↗，这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就是帆，它们推着这艘活的船舶，连船带驾驶者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一起推着跑↘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146" name="组合 3"/>
          <p:cNvGrpSpPr/>
          <p:nvPr/>
        </p:nvGrpSpPr>
        <p:grpSpPr>
          <a:xfrm>
            <a:off x="522360" y="1747800"/>
            <a:ext cx="5027400" cy="527040"/>
            <a:chOff x="522360" y="1747800"/>
            <a:chExt cx="5027400" cy="527040"/>
          </a:xfrm>
        </p:grpSpPr>
        <p:sp>
          <p:nvSpPr>
            <p:cNvPr id="147" name="矩形 1"/>
            <p:cNvSpPr/>
            <p:nvPr/>
          </p:nvSpPr>
          <p:spPr>
            <a:xfrm>
              <a:off x="977400" y="1754640"/>
              <a:ext cx="45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朗读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8" name="Picture 5" descr="E:\各版本共用文件\0未分类文件\图片\课件制作所需图片\四叶草.png"/>
            <p:cNvPicPr/>
            <p:nvPr/>
          </p:nvPicPr>
          <p:blipFill>
            <a:blip r:embed="rId2"/>
            <a:stretch/>
          </p:blipFill>
          <p:spPr>
            <a:xfrm>
              <a:off x="522360" y="1747800"/>
              <a:ext cx="471240" cy="52704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49" name="TextBox 2"/>
          <p:cNvSpPr/>
          <p:nvPr/>
        </p:nvSpPr>
        <p:spPr>
          <a:xfrm>
            <a:off x="3738600" y="3375000"/>
            <a:ext cx="10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.   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5504040" y="339732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1"/>
          <p:cNvSpPr/>
          <p:nvPr/>
        </p:nvSpPr>
        <p:spPr>
          <a:xfrm>
            <a:off x="6545160" y="337824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1846440" y="38624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2690640" y="4346640"/>
            <a:ext cx="6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4156200" y="4359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1192320" y="48322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2583000" y="482616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4282920" y="481320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3497400" y="529596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6465960" y="577548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   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1"/>
          <p:cNvSpPr/>
          <p:nvPr/>
        </p:nvSpPr>
        <p:spPr>
          <a:xfrm>
            <a:off x="5375160" y="529596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22"/>
          <p:cNvSpPr/>
          <p:nvPr/>
        </p:nvSpPr>
        <p:spPr>
          <a:xfrm>
            <a:off x="4946760" y="431640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4"/>
          <p:cNvSpPr/>
          <p:nvPr/>
        </p:nvSpPr>
        <p:spPr>
          <a:xfrm>
            <a:off x="1111320" y="2236680"/>
            <a:ext cx="710568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可以适当采用联系画面、读后想象画面、配乐朗读等方法来朗读课文。另外朗读时要把握课文的情感基调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2"/>
          <p:cNvSpPr/>
          <p:nvPr/>
        </p:nvSpPr>
        <p:spPr>
          <a:xfrm>
            <a:off x="912960" y="2754360"/>
            <a:ext cx="728820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(1)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是第一自然段的中心句，作者围绕这句话，先写了天鹅因为它“面目优雅”“形状妍美”有“温和的天性”，所以受到人们特别的喜爱；然后具体写了它的外形；最后一句又总结了全段的内容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(2)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是第二自然段的中心句，作者围绕这句话中的“最美的模型”，用了一连串的分号，详细具体地描述了天鹅善航在哪里、美在哪里，接着写它令人百看不厌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3"/>
          <p:cNvGrpSpPr/>
          <p:nvPr/>
        </p:nvGrpSpPr>
        <p:grpSpPr>
          <a:xfrm>
            <a:off x="522360" y="1125360"/>
            <a:ext cx="5027400" cy="527400"/>
            <a:chOff x="522360" y="1125360"/>
            <a:chExt cx="5027400" cy="527400"/>
          </a:xfrm>
        </p:grpSpPr>
        <p:sp>
          <p:nvSpPr>
            <p:cNvPr id="165" name="矩形 1"/>
            <p:cNvSpPr/>
            <p:nvPr/>
          </p:nvSpPr>
          <p:spPr>
            <a:xfrm>
              <a:off x="977400" y="1132200"/>
              <a:ext cx="45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思考与交流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6" name="Picture 5" descr="E:\各版本共用文件\0未分类文件\图片\课件制作所需图片\四叶草.png"/>
            <p:cNvPicPr/>
            <p:nvPr/>
          </p:nvPicPr>
          <p:blipFill>
            <a:blip r:embed="rId1"/>
            <a:stretch/>
          </p:blipFill>
          <p:spPr>
            <a:xfrm>
              <a:off x="522360" y="1125360"/>
              <a:ext cx="471240" cy="52740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67" name="矩形 2"/>
          <p:cNvSpPr/>
          <p:nvPr/>
        </p:nvSpPr>
        <p:spPr>
          <a:xfrm>
            <a:off x="554040" y="1589040"/>
            <a:ext cx="79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读下面的句子，体会作者是怎样围绕这些句子写出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鹅的特点的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文见教材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2"/>
          <p:cNvSpPr/>
          <p:nvPr/>
        </p:nvSpPr>
        <p:spPr>
          <a:xfrm>
            <a:off x="1052640" y="2017800"/>
            <a:ext cx="7288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(3)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是第三自然段的中心句，也是一个过渡句。作者围绕这句话，先写了天鹅的无拘无束，然后用了一个排比句，具体写它在水上到处遨游的样子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alibri"/>
              </a:rPr>
              <a:t>(4)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是第四自然段的中心句，主要围绕天鹅会在弥留时歌唱来写，写了它歌唱的声调，表现了它的神奇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2"/>
          <p:cNvSpPr/>
          <p:nvPr/>
        </p:nvSpPr>
        <p:spPr>
          <a:xfrm>
            <a:off x="719280" y="1284120"/>
            <a:ext cx="764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读课文，在括号里填写词语，再想一想，为什么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鹅是大自然提供给我们的航行术的最美的模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文见教材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077840" y="2968560"/>
            <a:ext cx="7288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①脖子胸脯船头腹部船底身子船舳尾巴舵脚桨大翅膀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②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天鹅的身体活脱脱就是一艘船舶，给人以美感，再加上它优雅的面目，所以说它是大自然提供给我们的航行术的最美的模型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内容占位符 2"/>
          <p:cNvSpPr/>
          <p:nvPr/>
        </p:nvSpPr>
        <p:spPr>
          <a:xfrm>
            <a:off x="782640" y="1897200"/>
            <a:ext cx="779292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天鹅具有什么样的特点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串珠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作者主要写了天鹅的哪些方面的特点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天鹅天生的美质表现在哪里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天鹅自由的美德表现在哪里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作者是按怎样的顺序描写天鹅的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912960" y="3618000"/>
            <a:ext cx="728820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见课文第二自然段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3"/>
          <p:cNvGrpSpPr/>
          <p:nvPr/>
        </p:nvGrpSpPr>
        <p:grpSpPr>
          <a:xfrm>
            <a:off x="522360" y="1989000"/>
            <a:ext cx="5027400" cy="527040"/>
            <a:chOff x="522360" y="1989000"/>
            <a:chExt cx="5027400" cy="527040"/>
          </a:xfrm>
        </p:grpSpPr>
        <p:sp>
          <p:nvSpPr>
            <p:cNvPr id="173" name="矩形 1"/>
            <p:cNvSpPr/>
            <p:nvPr/>
          </p:nvSpPr>
          <p:spPr>
            <a:xfrm>
              <a:off x="977400" y="1995840"/>
              <a:ext cx="45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与运用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4" name="Picture 5" descr="E:\各版本共用文件\0未分类文件\图片\课件制作所需图片\四叶草.png"/>
            <p:cNvPicPr/>
            <p:nvPr/>
          </p:nvPicPr>
          <p:blipFill>
            <a:blip r:embed="rId1"/>
            <a:stretch/>
          </p:blipFill>
          <p:spPr>
            <a:xfrm>
              <a:off x="522360" y="1989000"/>
              <a:ext cx="471240" cy="52704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75" name="矩形 2"/>
          <p:cNvSpPr/>
          <p:nvPr/>
        </p:nvSpPr>
        <p:spPr>
          <a:xfrm>
            <a:off x="554040" y="2452680"/>
            <a:ext cx="79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你对天鹅的了解，用文中的或你自己掌握的词语，来解说一下天鹅的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1031760" y="3048120"/>
            <a:ext cx="728820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这些词语都是形容天鹅之美的，其中有四字词语，如“不同凡俗、百看不厌”；更多的是偏正短语，即中心词在后面，前面的词语是用来修饰这个中心词的，如“俊秀的身段、圆润的形貌”等。积累这些词语，丰富自己的语言库，并尝试进行运用和表达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组合 3"/>
          <p:cNvGrpSpPr/>
          <p:nvPr/>
        </p:nvGrpSpPr>
        <p:grpSpPr>
          <a:xfrm>
            <a:off x="641520" y="1419120"/>
            <a:ext cx="5027400" cy="527040"/>
            <a:chOff x="641520" y="1419120"/>
            <a:chExt cx="5027400" cy="527040"/>
          </a:xfrm>
        </p:grpSpPr>
        <p:sp>
          <p:nvSpPr>
            <p:cNvPr id="178" name="矩形 1"/>
            <p:cNvSpPr/>
            <p:nvPr/>
          </p:nvSpPr>
          <p:spPr>
            <a:xfrm>
              <a:off x="1096560" y="1425960"/>
              <a:ext cx="45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积累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9" name="Picture 5" descr="E:\各版本共用文件\0未分类文件\图片\课件制作所需图片\四叶草.png"/>
            <p:cNvPicPr/>
            <p:nvPr/>
          </p:nvPicPr>
          <p:blipFill>
            <a:blip r:embed="rId1"/>
            <a:stretch/>
          </p:blipFill>
          <p:spPr>
            <a:xfrm>
              <a:off x="641520" y="1419120"/>
              <a:ext cx="471240" cy="52704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80" name="矩形 2"/>
          <p:cNvSpPr/>
          <p:nvPr/>
        </p:nvSpPr>
        <p:spPr>
          <a:xfrm>
            <a:off x="673200" y="188280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下面的词语，体会词语的特点，并选择喜欢的词语写下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2" name="矩形 1"/>
          <p:cNvSpPr/>
          <p:nvPr/>
        </p:nvSpPr>
        <p:spPr>
          <a:xfrm>
            <a:off x="1573200" y="2743200"/>
            <a:ext cx="601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遨游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á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ào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妍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á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湾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ā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沼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ǎ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ǎo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愈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ú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è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è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俘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ú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召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ā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ào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9"/>
          <p:cNvSpPr/>
          <p:nvPr/>
        </p:nvSpPr>
        <p:spPr>
          <a:xfrm>
            <a:off x="984240" y="203364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给带点的字选择正确的读音，打“√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1744560" y="29242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7"/>
          <p:cNvSpPr/>
          <p:nvPr/>
        </p:nvSpPr>
        <p:spPr>
          <a:xfrm>
            <a:off x="4178160" y="29242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30"/>
          <p:cNvSpPr/>
          <p:nvPr/>
        </p:nvSpPr>
        <p:spPr>
          <a:xfrm>
            <a:off x="2065320" y="34574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31"/>
          <p:cNvSpPr/>
          <p:nvPr/>
        </p:nvSpPr>
        <p:spPr>
          <a:xfrm>
            <a:off x="4192560" y="34574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32"/>
          <p:cNvSpPr/>
          <p:nvPr/>
        </p:nvSpPr>
        <p:spPr>
          <a:xfrm>
            <a:off x="1714320" y="40053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33"/>
          <p:cNvSpPr/>
          <p:nvPr/>
        </p:nvSpPr>
        <p:spPr>
          <a:xfrm>
            <a:off x="4483080" y="39909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34"/>
          <p:cNvSpPr/>
          <p:nvPr/>
        </p:nvSpPr>
        <p:spPr>
          <a:xfrm>
            <a:off x="1744560" y="46004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35"/>
          <p:cNvSpPr/>
          <p:nvPr/>
        </p:nvSpPr>
        <p:spPr>
          <a:xfrm>
            <a:off x="4071240" y="45543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3"/>
          <p:cNvSpPr/>
          <p:nvPr/>
        </p:nvSpPr>
        <p:spPr>
          <a:xfrm>
            <a:off x="2418840" y="2987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36"/>
          <p:cNvSpPr/>
          <p:nvPr/>
        </p:nvSpPr>
        <p:spPr>
          <a:xfrm>
            <a:off x="4931640" y="3002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37"/>
          <p:cNvSpPr/>
          <p:nvPr/>
        </p:nvSpPr>
        <p:spPr>
          <a:xfrm>
            <a:off x="3190320" y="3562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38"/>
          <p:cNvSpPr/>
          <p:nvPr/>
        </p:nvSpPr>
        <p:spPr>
          <a:xfrm>
            <a:off x="4977720" y="3516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39"/>
          <p:cNvSpPr/>
          <p:nvPr/>
        </p:nvSpPr>
        <p:spPr>
          <a:xfrm>
            <a:off x="2930040" y="4064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40"/>
          <p:cNvSpPr/>
          <p:nvPr/>
        </p:nvSpPr>
        <p:spPr>
          <a:xfrm>
            <a:off x="4941360" y="40719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41"/>
          <p:cNvSpPr/>
          <p:nvPr/>
        </p:nvSpPr>
        <p:spPr>
          <a:xfrm>
            <a:off x="2382120" y="46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42"/>
          <p:cNvSpPr/>
          <p:nvPr/>
        </p:nvSpPr>
        <p:spPr>
          <a:xfrm>
            <a:off x="5745960" y="4611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"/>
          <p:cNvSpPr/>
          <p:nvPr/>
        </p:nvSpPr>
        <p:spPr>
          <a:xfrm>
            <a:off x="1573200" y="2514600"/>
            <a:ext cx="601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í    zhǎo         fú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iú          qiào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q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ó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íng      chuá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uò            mí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li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9"/>
          <p:cNvSpPr/>
          <p:nvPr/>
        </p:nvSpPr>
        <p:spPr>
          <a:xfrm>
            <a:off x="984240" y="171288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读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606840" y="30621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709640" y="30621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矩形 22"/>
          <p:cNvSpPr/>
          <p:nvPr/>
        </p:nvSpPr>
        <p:spPr>
          <a:xfrm>
            <a:off x="1939680" y="3117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池 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3"/>
          <p:cNvSpPr/>
          <p:nvPr/>
        </p:nvSpPr>
        <p:spPr>
          <a:xfrm>
            <a:off x="3835080" y="3111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俘 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557680" y="30574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矩形 25"/>
          <p:cNvSpPr/>
          <p:nvPr/>
        </p:nvSpPr>
        <p:spPr>
          <a:xfrm>
            <a:off x="5786280" y="3106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翘 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637080" y="41292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739880" y="41292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矩形 28"/>
          <p:cNvSpPr/>
          <p:nvPr/>
        </p:nvSpPr>
        <p:spPr>
          <a:xfrm>
            <a:off x="1969920" y="418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模 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29"/>
          <p:cNvSpPr/>
          <p:nvPr/>
        </p:nvSpPr>
        <p:spPr>
          <a:xfrm>
            <a:off x="3865320" y="41781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船 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57680" y="41241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矩形 17"/>
          <p:cNvSpPr/>
          <p:nvPr/>
        </p:nvSpPr>
        <p:spPr>
          <a:xfrm>
            <a:off x="5786280" y="4173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弥 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3"/>
          <p:cNvSpPr/>
          <p:nvPr/>
        </p:nvSpPr>
        <p:spPr>
          <a:xfrm>
            <a:off x="755640" y="1444680"/>
            <a:ext cx="7272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三、辨字组词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4"/>
          <p:cNvSpPr/>
          <p:nvPr/>
        </p:nvSpPr>
        <p:spPr>
          <a:xfrm>
            <a:off x="3637080" y="17784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7"/>
          <p:cNvSpPr/>
          <p:nvPr/>
        </p:nvSpPr>
        <p:spPr>
          <a:xfrm>
            <a:off x="5305320" y="-185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1725480" y="2170080"/>
            <a:ext cx="522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遨（　　　　）  舵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熬（　　　　）  鸵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型（　　　　）  芯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（　　　　）  蕊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左大括号 7"/>
          <p:cNvSpPr/>
          <p:nvPr/>
        </p:nvSpPr>
        <p:spPr>
          <a:xfrm>
            <a:off x="1620720" y="2522520"/>
            <a:ext cx="198720" cy="977760"/>
          </a:xfrm>
          <a:custGeom>
            <a:avLst/>
            <a:gdLst>
              <a:gd name="textAreaLeft" fmla="*/ 127080 w 198720"/>
              <a:gd name="textAreaRight" fmla="*/ 199080 w 19872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左大括号 8"/>
          <p:cNvSpPr/>
          <p:nvPr/>
        </p:nvSpPr>
        <p:spPr>
          <a:xfrm>
            <a:off x="4043520" y="253368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9"/>
          <p:cNvSpPr/>
          <p:nvPr/>
        </p:nvSpPr>
        <p:spPr>
          <a:xfrm>
            <a:off x="2744640" y="239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遨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2744640" y="3156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煎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1"/>
          <p:cNvSpPr/>
          <p:nvPr/>
        </p:nvSpPr>
        <p:spPr>
          <a:xfrm>
            <a:off x="5216040" y="240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舵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2"/>
          <p:cNvSpPr/>
          <p:nvPr/>
        </p:nvSpPr>
        <p:spPr>
          <a:xfrm>
            <a:off x="5216040" y="3147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驼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左大括号 13"/>
          <p:cNvSpPr/>
          <p:nvPr/>
        </p:nvSpPr>
        <p:spPr>
          <a:xfrm>
            <a:off x="1616040" y="399888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5"/>
          <p:cNvSpPr/>
          <p:nvPr/>
        </p:nvSpPr>
        <p:spPr>
          <a:xfrm>
            <a:off x="2739600" y="3859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类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16"/>
          <p:cNvSpPr/>
          <p:nvPr/>
        </p:nvSpPr>
        <p:spPr>
          <a:xfrm>
            <a:off x="2739600" y="4603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形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左大括号 17"/>
          <p:cNvSpPr/>
          <p:nvPr/>
        </p:nvSpPr>
        <p:spPr>
          <a:xfrm>
            <a:off x="4043520" y="392112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206680" y="386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芯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5221080" y="4583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花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14"/>
          <p:cNvSpPr/>
          <p:nvPr/>
        </p:nvSpPr>
        <p:spPr>
          <a:xfrm>
            <a:off x="1376280" y="2352600"/>
            <a:ext cx="668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3"/>
          <p:cNvSpPr/>
          <p:nvPr/>
        </p:nvSpPr>
        <p:spPr>
          <a:xfrm>
            <a:off x="755640" y="1444680"/>
            <a:ext cx="7272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四、把下列词语补充完整，并选择其中一个写一句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4"/>
          <p:cNvSpPr/>
          <p:nvPr/>
        </p:nvSpPr>
        <p:spPr>
          <a:xfrm>
            <a:off x="3637080" y="17784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7"/>
          <p:cNvSpPr/>
          <p:nvPr/>
        </p:nvSpPr>
        <p:spPr>
          <a:xfrm>
            <a:off x="5305320" y="-185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7"/>
          <p:cNvSpPr/>
          <p:nvPr/>
        </p:nvSpPr>
        <p:spPr>
          <a:xfrm>
            <a:off x="2023200" y="2587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8"/>
          <p:cNvSpPr/>
          <p:nvPr/>
        </p:nvSpPr>
        <p:spPr>
          <a:xfrm>
            <a:off x="3089880" y="2587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10"/>
          <p:cNvSpPr/>
          <p:nvPr/>
        </p:nvSpPr>
        <p:spPr>
          <a:xfrm>
            <a:off x="4303440" y="2622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11"/>
          <p:cNvSpPr/>
          <p:nvPr/>
        </p:nvSpPr>
        <p:spPr>
          <a:xfrm>
            <a:off x="5097240" y="2587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2"/>
          <p:cNvSpPr/>
          <p:nvPr/>
        </p:nvSpPr>
        <p:spPr>
          <a:xfrm>
            <a:off x="2008080" y="3325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3"/>
          <p:cNvSpPr/>
          <p:nvPr/>
        </p:nvSpPr>
        <p:spPr>
          <a:xfrm>
            <a:off x="3089880" y="3346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6"/>
          <p:cNvSpPr/>
          <p:nvPr/>
        </p:nvSpPr>
        <p:spPr>
          <a:xfrm>
            <a:off x="4619520" y="333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17"/>
          <p:cNvSpPr/>
          <p:nvPr/>
        </p:nvSpPr>
        <p:spPr>
          <a:xfrm>
            <a:off x="5717880" y="3349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8"/>
          <p:cNvSpPr/>
          <p:nvPr/>
        </p:nvSpPr>
        <p:spPr>
          <a:xfrm>
            <a:off x="1442880" y="403056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名家弹奏的曲子，果然不同凡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1"/>
          <p:cNvSpPr/>
          <p:nvPr/>
        </p:nvSpPr>
        <p:spPr>
          <a:xfrm>
            <a:off x="797040" y="2195640"/>
            <a:ext cx="77533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天鹅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有天生的美质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有自由的美德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它不能享受到足够的独立，使它毫无奴役俘囚之感，它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会逗留在那里，不会在那里安顿下去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我们不能不承认它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羽族里第一名善航者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大自然提供给我们的航行术的最美的模型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天鹅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知道自己的高贵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很自豪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741240" y="1500120"/>
            <a:ext cx="7470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五、根据课文内容，在括号里填上恰当的关联词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1"/>
          <p:cNvSpPr/>
          <p:nvPr/>
        </p:nvSpPr>
        <p:spPr>
          <a:xfrm>
            <a:off x="2253600" y="229860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既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2"/>
          <p:cNvSpPr/>
          <p:nvPr/>
        </p:nvSpPr>
        <p:spPr>
          <a:xfrm>
            <a:off x="5366880" y="229860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4"/>
          <p:cNvSpPr/>
          <p:nvPr/>
        </p:nvSpPr>
        <p:spPr>
          <a:xfrm>
            <a:off x="1640520" y="280836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如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5"/>
          <p:cNvSpPr/>
          <p:nvPr/>
        </p:nvSpPr>
        <p:spPr>
          <a:xfrm>
            <a:off x="2623680" y="331308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9"/>
          <p:cNvSpPr/>
          <p:nvPr/>
        </p:nvSpPr>
        <p:spPr>
          <a:xfrm>
            <a:off x="4030560" y="376704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不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10"/>
          <p:cNvSpPr/>
          <p:nvPr/>
        </p:nvSpPr>
        <p:spPr>
          <a:xfrm>
            <a:off x="1788840" y="428292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并且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1"/>
          <p:cNvSpPr/>
          <p:nvPr/>
        </p:nvSpPr>
        <p:spPr>
          <a:xfrm>
            <a:off x="2311920" y="482436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因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12"/>
          <p:cNvSpPr/>
          <p:nvPr/>
        </p:nvSpPr>
        <p:spPr>
          <a:xfrm>
            <a:off x="5977440" y="478476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所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1"/>
          <p:cNvSpPr/>
          <p:nvPr/>
        </p:nvSpPr>
        <p:spPr>
          <a:xfrm>
            <a:off x="797040" y="1868400"/>
            <a:ext cx="77533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天鹅是一个神奇的歌手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改为反问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天鹅对生命作一个哀痛而深情的告别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缩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 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你可真聪明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表示批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你可真聪明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表示赞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3"/>
          <p:cNvSpPr/>
          <p:nvPr/>
        </p:nvSpPr>
        <p:spPr>
          <a:xfrm>
            <a:off x="741240" y="1173240"/>
            <a:ext cx="7470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六、句子加工厂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4"/>
          <p:cNvSpPr/>
          <p:nvPr/>
        </p:nvSpPr>
        <p:spPr>
          <a:xfrm>
            <a:off x="3059280" y="5000760"/>
            <a:ext cx="36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这样难办的事都难不住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1"/>
          <p:cNvSpPr/>
          <p:nvPr/>
        </p:nvSpPr>
        <p:spPr>
          <a:xfrm>
            <a:off x="1282680" y="2432160"/>
            <a:ext cx="510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难道天鹅不是一个神奇的歌手吗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068200" y="346860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天鹅作告别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1268280" y="4452840"/>
            <a:ext cx="377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这样简单的事也来问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2"/>
          <p:cNvSpPr/>
          <p:nvPr/>
        </p:nvSpPr>
        <p:spPr>
          <a:xfrm>
            <a:off x="968400" y="184320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鹅的面目优雅，形状妍美，与它那种温和的天性正好相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标注 4"/>
          <p:cNvSpPr/>
          <p:nvPr/>
        </p:nvSpPr>
        <p:spPr>
          <a:xfrm>
            <a:off x="6369120" y="2817720"/>
            <a:ext cx="1728720" cy="511200"/>
          </a:xfrm>
          <a:prstGeom prst="wedgeRectCallout">
            <a:avLst>
              <a:gd name="adj1" fmla="val -49087"/>
              <a:gd name="adj2" fmla="val -74888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6280" rIns="116280" tIns="116280" bIns="11628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中心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1146240" y="3241800"/>
            <a:ext cx="7110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一句是本段的中心句，交代了天鹅外形的妍美，在结构上起统领全段的作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2"/>
          <p:cNvSpPr/>
          <p:nvPr/>
        </p:nvSpPr>
        <p:spPr>
          <a:xfrm>
            <a:off x="968400" y="9874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们看见它那种雍容自在的样子，看见它在水上活动得那么轻便、那么自由，就不能不承认它不但是羽族里第一名善航者，并且是大自然提供给我们的航行术的最美的模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标注 4"/>
          <p:cNvSpPr/>
          <p:nvPr/>
        </p:nvSpPr>
        <p:spPr>
          <a:xfrm>
            <a:off x="4952880" y="3186000"/>
            <a:ext cx="3303720" cy="511200"/>
          </a:xfrm>
          <a:prstGeom prst="wedgeRectCallout">
            <a:avLst>
              <a:gd name="adj1" fmla="val -49087"/>
              <a:gd name="adj2" fmla="val -74888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6280" rIns="116280" tIns="116280" bIns="11628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中心句、双重否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14"/>
          <p:cNvSpPr/>
          <p:nvPr/>
        </p:nvSpPr>
        <p:spPr>
          <a:xfrm>
            <a:off x="1050840" y="3751200"/>
            <a:ext cx="730908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是本段的中心句。这句写出了天鹅的两个特点：一个是“善航”，一个是“最美的模型”。“不能不承认”是双重否定。双重否定句的运用加强了表达的语气，更体现出作者对天鹅航行技术的赞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23"/>
          <p:cNvSpPr/>
          <p:nvPr/>
        </p:nvSpPr>
        <p:spPr>
          <a:xfrm>
            <a:off x="820800" y="1836720"/>
            <a:ext cx="772776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概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双重否定句就是用否定加否定的形式表达肯定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2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达效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双重否定句语气比肯定句更为强烈。起到不容置疑的进一步的肯定。加强了肯定的效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3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判断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般用“不是不、不能不、不会不”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9"/>
          <p:cNvGrpSpPr/>
          <p:nvPr/>
        </p:nvGrpSpPr>
        <p:grpSpPr>
          <a:xfrm>
            <a:off x="650880" y="965160"/>
            <a:ext cx="8102520" cy="835200"/>
            <a:chOff x="650880" y="965160"/>
            <a:chExt cx="8102520" cy="835200"/>
          </a:xfrm>
        </p:grpSpPr>
        <p:sp>
          <p:nvSpPr>
            <p:cNvPr id="74" name="矩形 1"/>
            <p:cNvSpPr/>
            <p:nvPr/>
          </p:nvSpPr>
          <p:spPr>
            <a:xfrm>
              <a:off x="3729240" y="1001880"/>
              <a:ext cx="50241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认识双重否定句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Picture 6" descr=""/>
            <p:cNvPicPr/>
            <p:nvPr/>
          </p:nvPicPr>
          <p:blipFill>
            <a:blip r:embed="rId4"/>
            <a:stretch/>
          </p:blipFill>
          <p:spPr>
            <a:xfrm>
              <a:off x="650880" y="965160"/>
              <a:ext cx="307836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2"/>
          <p:cNvSpPr/>
          <p:nvPr/>
        </p:nvSpPr>
        <p:spPr>
          <a:xfrm>
            <a:off x="749160" y="14382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它的脖子高高的，胸脯挺挺的、圆圆的，就仿佛是破浪前进的船头；它的宽广的腹部就像船底；它的身子为了便于疾驰，向前倾着，愈向后就愈挺起，最后翘得高高的就像船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ú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尾巴是地道的舵；脚就是宽阔的桨；它的一对大翅膀在风前半张着，微微地鼓起来，这就是帆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标注 6"/>
          <p:cNvSpPr/>
          <p:nvPr/>
        </p:nvSpPr>
        <p:spPr>
          <a:xfrm>
            <a:off x="6711840" y="4654440"/>
            <a:ext cx="1596960" cy="511200"/>
          </a:xfrm>
          <a:prstGeom prst="wedgeRectCallout">
            <a:avLst>
              <a:gd name="adj1" fmla="val -49087"/>
              <a:gd name="adj2" fmla="val -74888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6280" rIns="116280" tIns="116280" bIns="11628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"/>
          <p:cNvSpPr/>
          <p:nvPr/>
        </p:nvSpPr>
        <p:spPr>
          <a:xfrm>
            <a:off x="885960" y="202392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此处运用了比喻的手法，把天鹅的各部位比作船的相对应的各个部分，形象生动，既突出天鹅善航的特点，又说明了它为何是“最美的模型”。天鹅的各部位之间用分号隔开来写，达到条理清晰的效果，使写作有序地展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2"/>
          <p:cNvSpPr/>
          <p:nvPr/>
        </p:nvSpPr>
        <p:spPr>
          <a:xfrm>
            <a:off x="968400" y="987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此外，古人不仅把天鹅说成一个神奇的歌手，还认为在一切临终时有所感触的生物中，只有天鹅会在弥留时歌唱，用和谐的声音作为它最后的叹息的前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标注 4"/>
          <p:cNvSpPr/>
          <p:nvPr/>
        </p:nvSpPr>
        <p:spPr>
          <a:xfrm>
            <a:off x="6805440" y="2770200"/>
            <a:ext cx="1652760" cy="511200"/>
          </a:xfrm>
          <a:prstGeom prst="wedgeRectCallout">
            <a:avLst>
              <a:gd name="adj1" fmla="val -49087"/>
              <a:gd name="adj2" fmla="val -74888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6280" rIns="116280" tIns="116280" bIns="11628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拟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1050840" y="3382920"/>
            <a:ext cx="73090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使用拟人的手法，写出了天鹅用歌唱来面对死亡的独特方式，临终前的“和谐”令人感动。此外将天鹅当成人来写，充分体现了作者对天鹅的挚爱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4T02:27:18Z</dcterms:modified>
  <cp:revision>4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